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5E89-9A43-4486-9C7A-356BA9CBB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F78D-96D9-4103-8794-1483D828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C24D-F9E6-4609-BB63-5D7DD39B7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DD23-E39A-48F3-AE0E-B3FC3779E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4973-925A-46AE-90A7-E16F3C67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EC4F-6158-4016-A846-C2835F23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E61A-5A62-4718-8528-34A65D87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4C7E-2E18-49EC-8CDF-218809D8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A266-D126-4BCB-B289-E8185C06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614A-E88E-4525-9B33-2C1E18C2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EA85-243A-4270-82FB-3194B20B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CC93-6AD8-441B-89F5-5276D6F4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6A13-B1D5-40CF-9947-25D80A107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essuel.org/ccnn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048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35640" y="549360"/>
            <a:ext cx="316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Veamos algunos datos de la hidrosf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4508640"/>
            <a:ext cx="223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.E.S. Suel – Fuengi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artamento de Ciencias Natural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essuel.org/cc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Brush Script MT"/>
              </a:rPr>
              <a:t>	</a:t>
            </a:r>
            <a:r>
              <a:rPr b="0" lang="en-US" sz="5400" spc="-1" strike="noStrike">
                <a:solidFill>
                  <a:srgbClr val="ffff66"/>
                </a:solidFill>
                <a:latin typeface="Tw Cen MT Condensed Extra Bold"/>
              </a:rPr>
              <a:t>El agua de nuestro plane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64000" y="1440000"/>
            <a:ext cx="2953080" cy="221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-684360" y="671400"/>
          <a:ext cx="6048360" cy="563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684360" y="671400"/>
                    <a:ext cx="6048360" cy="563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627280" y="3141720"/>
            <a:ext cx="6476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3429000"/>
            <a:ext cx="505080" cy="216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364000" y="4076640"/>
            <a:ext cx="2953080" cy="1971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4000" y="1413000"/>
            <a:ext cx="2953080" cy="287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8360" y="2060640"/>
            <a:ext cx="201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97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86160" y="4292640"/>
            <a:ext cx="150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53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w Cen MT Condensed Extra Bold"/>
              </a:rPr>
              <a:t>El agua dul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0" y="404640"/>
            <a:ext cx="4392720" cy="288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324000" y="333360"/>
          <a:ext cx="8208720" cy="652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333360"/>
                    <a:ext cx="820872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3348000" y="5516640"/>
            <a:ext cx="647640" cy="217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635280" y="3860280"/>
            <a:ext cx="505080" cy="5050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6732720" y="3645000"/>
            <a:ext cx="2170080" cy="2133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588000" y="5950080"/>
            <a:ext cx="239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ólo el 0,01% para consumo hu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628640"/>
            <a:ext cx="395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La mayor parte del agua dulce es hi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8360" y="357336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9% HI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124000" y="3284640"/>
            <a:ext cx="210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SQUETES POLARES (HIE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2626920" y="980640"/>
            <a:ext cx="289080" cy="2087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59280" y="4581360"/>
            <a:ext cx="144360" cy="151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75280" y="0"/>
            <a:ext cx="25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írculo polar Ár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14560" y="6461280"/>
            <a:ext cx="293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írculo polar Antár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612720" y="-96840"/>
            <a:ext cx="10656720" cy="7126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229800" y="4005360"/>
            <a:ext cx="246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EBER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42920" y="189000"/>
            <a:ext cx="590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ierra firme cubierta de hielo acumulado durante miles de años de nev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95280" y="1341360"/>
            <a:ext cx="50472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87280" y="2060640"/>
            <a:ext cx="66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De ella se desprenden los icerberg, que son enormes bloques que van flotando a la deriva en el mar hasta que acaban fundiénd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573120" y="-243000"/>
            <a:ext cx="5264280" cy="7272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788000" y="981000"/>
            <a:ext cx="358560" cy="936720"/>
          </a:xfrm>
          <a:custGeom>
            <a:avLst/>
            <a:gdLst>
              <a:gd name="textAreaLeft" fmla="*/ 0 w 358560"/>
              <a:gd name="textAreaRight" fmla="*/ 129600 w 35856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88000" y="2205000"/>
            <a:ext cx="358560" cy="4390920"/>
          </a:xfrm>
          <a:custGeom>
            <a:avLst/>
            <a:gdLst>
              <a:gd name="textAreaLeft" fmla="*/ 0 w 358560"/>
              <a:gd name="textAreaRight" fmla="*/ 129600 w 358560"/>
              <a:gd name="textAreaTop" fmla="*/ 114480 h 4390920"/>
              <a:gd name="textAreaBottom" fmla="*/ 4276440 h 43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76720" y="981000"/>
            <a:ext cx="3275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Tw Cen MT Condensed Extra Bold"/>
              </a:rPr>
              <a:t>Parte que emer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3284640"/>
            <a:ext cx="370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Tw Cen MT Condensed Extra Bold"/>
              </a:rPr>
              <a:t>Parte sumergida del iceber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56000" y="-531720"/>
            <a:ext cx="360360" cy="864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7800" y="333360"/>
            <a:ext cx="246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EBER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2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940360" y="260280"/>
            <a:ext cx="295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El choque con un iceberg provocó el hundimiento del Tit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4T20:59:39Z</dcterms:created>
  <dc:creator>euyin</dc:creator>
  <dc:description/>
  <dc:language>en-US</dc:language>
  <cp:lastModifiedBy>Eugenio</cp:lastModifiedBy>
  <dcterms:modified xsi:type="dcterms:W3CDTF">2010-02-12T20:35:24Z</dcterms:modified>
  <cp:revision>411</cp:revision>
  <dc:subject/>
  <dc:title>Diapositiva 1</dc:title>
</cp:coreProperties>
</file>